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36.gif" ContentType="image/gif"/>
  <Override PartName="/ppt/media/image17.jpeg" ContentType="image/jpeg"/>
  <Override PartName="/ppt/media/image12.gif" ContentType="image/gif"/>
  <Override PartName="/ppt/media/image16.png" ContentType="image/png"/>
  <Override PartName="/ppt/media/image15.jpeg" ContentType="image/jpeg"/>
  <Override PartName="/ppt/media/image29.gif" ContentType="image/gif"/>
  <Override PartName="/ppt/media/projctor.wav" ContentType="audio/x-wav"/>
  <Override PartName="/ppt/media/image24.jpeg" ContentType="image/jpeg"/>
  <Override PartName="/ppt/media/image14.jpeg" ContentType="image/jpeg"/>
  <Override PartName="/ppt/media/image1.gif" ContentType="image/gif"/>
  <Override PartName="/ppt/media/image31.gif" ContentType="image/gif"/>
  <Override PartName="/ppt/media/image25.gif" ContentType="image/gif"/>
  <Override PartName="/ppt/media/image6.jpeg" ContentType="image/jpeg"/>
  <Override PartName="/ppt/media/image27.wmf" ContentType="image/x-wmf"/>
  <Override PartName="/ppt/media/image28.jpeg" ContentType="image/jpeg"/>
  <Override PartName="/ppt/media/image35.gif" ContentType="image/gif"/>
  <Override PartName="/ppt/media/image32.gif" ContentType="image/gif"/>
  <Override PartName="/ppt/media/image42.jpeg" ContentType="image/jpeg"/>
  <Override PartName="/ppt/media/image11.gif" ContentType="image/gif"/>
  <Override PartName="/ppt/media/image37.gif" ContentType="image/gif"/>
  <Override PartName="/ppt/media/image34.gif" ContentType="image/gif"/>
  <Override PartName="/ppt/media/image9.gif" ContentType="image/gif"/>
  <Override PartName="/ppt/media/image33.gif" ContentType="image/gif"/>
  <Override PartName="/ppt/media/image18.jpeg" ContentType="image/jpeg"/>
  <Override PartName="/ppt/media/image19.wmf" ContentType="image/x-wmf"/>
  <Override PartName="/ppt/media/image39.jpeg" ContentType="image/jpeg"/>
  <Override PartName="/ppt/media/image45.gif" ContentType="image/gif"/>
  <Override PartName="/ppt/media/image10.gif" ContentType="image/gif"/>
  <Override PartName="/ppt/media/image41.png" ContentType="image/png"/>
  <Override PartName="/ppt/media/image43.gif" ContentType="image/gif"/>
  <Override PartName="/ppt/media/image44.png" ContentType="image/png"/>
  <Override PartName="/ppt/media/image40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7.png" ContentType="image/png"/>
  <Override PartName="/ppt/media/image22.jpeg" ContentType="image/jpeg"/>
  <Override PartName="/ppt/media/image8.gif" ContentType="image/gif"/>
  <Override PartName="/ppt/media/image38.gif" ContentType="image/gif"/>
  <Override PartName="/ppt/media/image4.jpeg" ContentType="image/jpeg"/>
  <Override PartName="/ppt/media/image2.png" ContentType="image/png"/>
  <Override PartName="/ppt/media/image5.png" ContentType="image/png"/>
  <Override PartName="/ppt/media/applaus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5C4-9474-4C88-8C22-FF30D87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B6C-2C51-474A-8506-DB893657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F21-195C-4666-8655-624A868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6B2-7DC8-46DB-8B0C-E013155C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735-9D44-4DA4-8C32-82CD8CB2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8D9-F6D7-4E00-AD05-FF6B9412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A2C-A7E5-448C-9719-FB63F653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5E8-2BB8-4271-9F30-B9CE3324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C41-781D-4178-9504-781DD3C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8AB-5588-4657-9673-8E46638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C14-EB3B-457A-91C5-1829B28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490-9AC2-4C37-8AD6-B356F13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3F7F-6F63-4B82-B42B-8DDC617D1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Temporary%20Internet%20Files/Content.IE5/&#24180;&#32423;&#25945;&#21153;/&#34917;&#24046;&#23398;&#29983;&#21517;&#21333;(&#24635;&#34920;1&#65289;.xls" TargetMode="External"/><Relationship Id="rId2" Type="http://schemas.openxmlformats.org/officeDocument/2006/relationships/hyperlink" Target="file:///C:/Documents%20and%20Settings/Administrator/Temporary%20Internet%20Files/Content.IE5/&#24180;&#32423;&#25945;&#21153;/&#23398;&#29983;&#34917;&#24046;&#35760;&#24405;&#21333;.xls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C:/Documents%20and%20Settings/Administrator/My%20Documents/kejian/unit3huo.ppt" TargetMode="External"/><Relationship Id="rId3" Type="http://schemas.openxmlformats.org/officeDocument/2006/relationships/image" Target="../media/image42.jpeg"/><Relationship Id="rId4" Type="http://schemas.openxmlformats.org/officeDocument/2006/relationships/hyperlink" Target="file:///C:/Documents%20and%20Settings/Administrator/My%20Documents/kejian/unit3huo.ppt" TargetMode="Externa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image" Target="../media/image4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6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关心集体积极分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484280"/>
            <a:ext cx="8207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冯翰熙 何俊钜 苏智纬 余孟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凌穗龙 王嘉颖 邓建茗 刘丽莹 麦洁仪 胡倩雯 陶雪莹 梁安琪 谢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0000" y="549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优秀团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484280"/>
            <a:ext cx="8207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梁昊晖刘永祥 李家梁 凌穗龙 邓建茗 麦洁仪 夏旻媚 陶雪莹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40000" y="549360"/>
            <a:ext cx="62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优秀班干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484280"/>
            <a:ext cx="8207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梁昊晖刘永祥 李家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凌穗龙 林锦源叶敏仪 刘丽莹 麦洁仪 胡倩雯 陶宁珊 陶雪莹 梁安琪  黄静雯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40000" y="549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三好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484280"/>
            <a:ext cx="82076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刘永祥 李家梁余景峰凌穗龙 黄旭峰陈昊韬林锦源傅文乐曾世乐王嘉颖邓建茗 叶敏仪 叶静文叶少敏 刘丽莹 吕丽珍 吴凤婷 陈颂恩 麦洁仪姜倩雯 胡倩雯 罗苑君 夏旻媚 陶宁珊 陶雪莹 梁文雅 梁安琪黄瑞云 黄静雯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15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一模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609624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133720" y="2133720"/>
            <a:ext cx="59436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10134720" cy="6810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457200"/>
            <a:ext cx="8153280" cy="640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我班在这次一模考试中，继校模之后又一次取得稳中略有上升的成绩，其中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英语、物理、历史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处于平行班级中上位置，尤其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英语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学科取得了班均分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01.92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的好成绩，其余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文、数学、综合、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科及总分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处于平行班级中上位置，各科发展不平衡，重点及本科上线率尚可以，但是未上线的人数偏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下全市一模（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06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）各科上线预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954000"/>
          <a:ext cx="8294400" cy="5904000"/>
        </p:xfrm>
        <a:graphic>
          <a:graphicData uri="http://schemas.openxmlformats.org/drawingml/2006/table">
            <a:tbl>
              <a:tblPr/>
              <a:tblGrid>
                <a:gridCol w="2742840"/>
                <a:gridCol w="1589040"/>
                <a:gridCol w="1752480"/>
                <a:gridCol w="2210040"/>
              </a:tblGrid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专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综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下全市一模（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06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）各科上线预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954000"/>
          <a:ext cx="8294400" cy="4667400"/>
        </p:xfrm>
        <a:graphic>
          <a:graphicData uri="http://schemas.openxmlformats.org/drawingml/2006/table">
            <a:tbl>
              <a:tblPr/>
              <a:tblGrid>
                <a:gridCol w="2743200"/>
                <a:gridCol w="1589040"/>
                <a:gridCol w="1752480"/>
                <a:gridCol w="2209680"/>
              </a:tblGrid>
              <a:tr h="15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专</a:t>
                      </a: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全市总预测人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2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188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8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五科综合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3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9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下市一模各科上线预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954000"/>
          <a:ext cx="8991360" cy="3775320"/>
        </p:xfrm>
        <a:graphic>
          <a:graphicData uri="http://schemas.openxmlformats.org/drawingml/2006/table">
            <a:tbl>
              <a:tblPr/>
              <a:tblGrid>
                <a:gridCol w="2743200"/>
                <a:gridCol w="1218960"/>
                <a:gridCol w="1524240"/>
                <a:gridCol w="1752480"/>
                <a:gridCol w="1752480"/>
              </a:tblGrid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专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综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高三下第一模班级前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名名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006560"/>
          <a:ext cx="8785080" cy="6089400"/>
        </p:xfrm>
        <a:graphic>
          <a:graphicData uri="http://schemas.openxmlformats.org/drawingml/2006/table">
            <a:tbl>
              <a:tblPr/>
              <a:tblGrid>
                <a:gridCol w="1728720"/>
                <a:gridCol w="1512720"/>
                <a:gridCol w="1582920"/>
                <a:gridCol w="1584360"/>
                <a:gridCol w="2376360"/>
              </a:tblGrid>
              <a:tr h="53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    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    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模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级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嘉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姜倩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姜倩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嘉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李家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谢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陶雪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林锦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刘永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静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陶宁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陶宁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叶敏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刘永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黄静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陈颂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罗苑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唐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吴风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吴风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428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模与校模对照进步较快的学生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9120" y="817560"/>
          <a:ext cx="8229600" cy="6386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冯翰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王嘉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李家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叶敏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胡子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刘兴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凌穗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吕丽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高嘉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罗苑君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黄嘉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夏旻媚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28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模与校模对照进步较快的学生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9120" y="81756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姓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步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陶雪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叶广芊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梁文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梁安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黄倩雯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蔡锦琪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cf4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光荣榜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单科级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990720"/>
            <a:ext cx="693396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语文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蔡锦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数学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陶宁珊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英语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吕丽珍 黄嘉豪 胡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综合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黄嘉豪  姜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总分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黄嘉豪  姜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1447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981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609480" cy="58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905120" y="30780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2743200" cy="551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cf4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光荣榜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(X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科级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990720"/>
            <a:ext cx="693396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物理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刘永祥 陈昊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化学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姜倩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生物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陶雪莹 刘丽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历史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黄嘉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政治、地理——  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447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81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609480" cy="58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05120" y="307800"/>
            <a:ext cx="533160" cy="51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2743200" cy="551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4876560"/>
            <a:ext cx="62485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模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语文，英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也不要忽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科及综合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67320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三、展望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一模之后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生名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班主任与各科任老师的联系，对补薄学生给予更多的关注，并通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生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记录单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8216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320" y="4572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60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838080"/>
            <a:ext cx="838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295280"/>
            <a:ext cx="84582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实行“三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选修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三：语文、数学、外语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（各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），共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综合：物理、化学、生物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 政治计入高考成绩，共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第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周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2006.3.12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体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5. 2006.3.24-26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二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6.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第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1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周填志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在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举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666880"/>
            <a:ext cx="5303880" cy="1494000"/>
            <a:chOff x="1905120" y="2666880"/>
            <a:chExt cx="5303880" cy="1494000"/>
          </a:xfrm>
        </p:grpSpPr>
        <p:sp>
          <p:nvSpPr>
            <p:cNvPr id="164" name=""/>
            <p:cNvSpPr/>
            <p:nvPr/>
          </p:nvSpPr>
          <p:spPr>
            <a:xfrm>
              <a:off x="1905120" y="266688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905120" y="2666880"/>
              <a:ext cx="1231920" cy="1494000"/>
              <a:chOff x="1905120" y="2666880"/>
              <a:chExt cx="1231920" cy="149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1905120" y="266688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1905120" y="2666880"/>
                <a:ext cx="1231920" cy="1494000"/>
                <a:chOff x="1905120" y="2666880"/>
                <a:chExt cx="1231920" cy="1494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905120" y="266688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1905120" y="2666880"/>
                  <a:ext cx="1231920" cy="1494000"/>
                  <a:chOff x="1905120" y="2666880"/>
                  <a:chExt cx="1231920" cy="14940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905120" y="266688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05120" y="266688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30200" y="167652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4560" y="304920"/>
            <a:ext cx="8569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57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13372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120" y="373392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120" y="541008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1" dur="1" fill="hold"/>
                                  <p:tgtEl>
                                    <p:spTgt spid="2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22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35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46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48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4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56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58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66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68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zh-CN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zh-CN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家长代表经验交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3681360"/>
            <a:ext cx="3745080" cy="317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朋友再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248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rId4"/>
          </p:cNvPr>
          <p:cNvSpPr/>
          <p:nvPr/>
        </p:nvSpPr>
        <p:spPr>
          <a:xfrm>
            <a:off x="838080" y="6095880"/>
            <a:ext cx="304920" cy="281160"/>
          </a:xfrm>
          <a:custGeom>
            <a:avLst/>
            <a:gdLst>
              <a:gd name="textAreaLeft" fmla="*/ 70200 w 304920"/>
              <a:gd name="textAreaRight" fmla="*/ 234720 w 304920"/>
              <a:gd name="textAreaTop" fmla="*/ 70200 h 281160"/>
              <a:gd name="textAreaBottom" fmla="*/ 2109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18023" y="5400"/>
                </a:lnTo>
                <a:lnTo>
                  <a:pt x="5400" y="5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18023" y="16200"/>
                </a:lnTo>
                <a:lnTo>
                  <a:pt x="18023" y="5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8023" y="16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94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-609480" y="5181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9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03280" y="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全勤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907920"/>
            <a:ext cx="8281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 冯翰熙 刘永祥 余景峰 李家梁 苏智纬 陈昊韬 凌穗龙 郭永龙 黄旭峰 傅文乐 曾世乐 邓建茗 叶敏仪 叶静文 刘丽莹 吕丽珍 吴凤婷 陈颂恩 麦洁仪姜倩雯 胡倩雯 黄倩雯 夏旻媚 陶宁珊 陶雪莹 梁文雅 梁安琪黄瑞云黄静雯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40000" y="549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习态度特别好的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484280"/>
            <a:ext cx="820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84280"/>
            <a:ext cx="9325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刘永祥 李家梁 凌穗龙  叶敏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叶静文吴凤婷 陈颂恩 麦洁仪姜倩雯 黄倩雯 夏旻媚 陶宁珊 梁安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黄瑞云 谢青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0000" y="54936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年文明礼貌标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484280"/>
            <a:ext cx="8207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卫骁劲 冯翰熙 何俊钜梁昊晖 刘永祥 李家梁 凌穗龙 黄旭峰 林锦源邓建茗 叶敏仪 叶静文 陈颂恩 麦洁仪 姜倩雯 胡倩雯 陶雪莹 梁安琪 黄瑞云 谢青  蔡锦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40:36Z</dcterms:modified>
  <cp:revision>131</cp:revision>
  <dc:subject>主题班会课件(分28大类): http://shop62905894.taobao.com</dc:subject>
  <dc:title>主题班会课件(分28大类): http://shop62905894.taobao.com</dc:title>
</cp:coreProperties>
</file>